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06D-EE07-40D2-81ED-C8996759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409-0821-42A3-83B1-E3295E02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187-270E-4E3D-99A3-18169336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0E5-7A9C-451B-9804-6BB0E4AF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573-AC3D-4EDE-9CCE-1AC75FFB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3F6-FEFA-4157-BD13-CFAEA96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231-3C6D-4878-89AF-6FFD380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002-862A-4FBA-A6EF-A5E83F4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D6F-1400-4212-AB14-212FD49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DC7-840D-4548-9CE6-9BC95DB3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160-03F5-4746-8C88-68DF852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9D2-3B4B-47D4-91C1-BE4B909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360-DEB8-48D2-B7E5-3F7C34A1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040" y="335520"/>
            <a:ext cx="857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 е с т  «Эта удивительная при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. Что называют те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се то, что сделано руками челове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любой предмет, любое живое сущ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любое растение, насекомое, птица и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2. В каких веществах промежутки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частицами наибольш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твердых;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в жидк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 газообраз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3. Какие вещества входят в состав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одород, медь, ци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кислород, азот, углекислый 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хлор, фтор, й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360" y="180720"/>
            <a:ext cx="85446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4. Какими свойствами обладает воздух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ен, бесцветен, без запах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нагревании расширяется, а при охлажд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жимается, плохо проводит тепло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голубой цвет, как небо; проводит звуки, не име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паха; пропускает солнечные луч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оздух зависит от окружающих предме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орошо проводит тепло; образует вете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5. Вода может находить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в жидк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 твердом состоян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в жидком, твердом, газообразном состоя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6. Какая вода нужна людя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зрач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сцветна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чист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1160" y="166320"/>
            <a:ext cx="85917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7. Без чего невозможно вырастить урожа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без тракторов, комбайнов, топли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без удобрений, труда люд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без света, воздуха,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8. За счет чего разрушаются скалы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за счет нагревания скал в солнечные дн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тывания ноч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из-за животных, растений, микроб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из-за колебания температуры, воды, ветра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т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c3300"/>
                </a:solidFill>
                <a:uFillTx/>
                <a:latin typeface="Arial"/>
              </a:rPr>
              <a:t>9. Из чего состоит почв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из воздуха, воды, перегноя, песка, глины, сол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воздуха, воды, перегноя, песка, глины, сол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ней растений, животных, обитающих в почв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микробов корней растений, различных животны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итающих в поч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760" y="133920"/>
            <a:ext cx="880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. Что растения получают из почвы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ерегной, песок, гл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статки растений и живот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оздух, воду, 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1. Как называется наука о растен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бота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зоолог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эк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2.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тицы, звери, насекомые, ящерицы, зме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хи, лягушки, черв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человек, птицы, звери, насекомые, рыб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, микроб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тицы, звери, насекомые, рыбы, земновод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0680" y="562320"/>
            <a:ext cx="9030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3. Какая из цепей питания указана правильно?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лизни  капуста  жаб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сна  дятел  жук-корое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рожь  мышь  змея  ор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4. Где выращивают редкие раст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привезенные со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парк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квер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ботанических са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5. Какие животные помещены в Красную кни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тигр, морж, фламинго, орел-берк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лень, заяц, лиса, вол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3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корова, лошадь, гусь, пет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51920" y="19224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 на 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839440" cy="3251160"/>
        </p:xfrm>
        <a:graphic>
          <a:graphicData uri="http://schemas.openxmlformats.org/drawingml/2006/table">
            <a:tbl>
              <a:tblPr/>
              <a:tblGrid>
                <a:gridCol w="552600"/>
                <a:gridCol w="552600"/>
                <a:gridCol w="55224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  <a:gridCol w="552240"/>
                <a:gridCol w="552600"/>
                <a:gridCol w="552600"/>
                <a:gridCol w="552240"/>
                <a:gridCol w="552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K-07</cp:lastModifiedBy>
  <dcterms:modified xsi:type="dcterms:W3CDTF">2011-01-24T11:51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